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079F-3F0C-44EB-9E63-EECED887F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8516-06D9-425D-A224-020815759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ED4F-5EB0-4303-AD88-30ACC623C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DCE2-0412-4DDA-8255-A20406A36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C511-8311-4B4B-A274-DB16051FE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F841-F362-4EA7-8158-A6AC2DE87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48C7-9424-479A-B795-4C95BE6CC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A0D6-F6E2-4051-BD18-7BC38363A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736C-AA72-41E6-A75E-877D416EE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3EAA-353A-45EA-807D-DD26C3B07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0214-D14A-47C2-A73C-672E1C8FE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5BB6-6A1B-47E6-8D96-61CE4E66D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7CA3-787C-4EE3-996D-B2428E3BCA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sources.curriculum.org/secretariat/coplanning/learning.s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61D0-DC00-4D0B-A170-4E5449627E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9000"/>
          </a:bodyPr>
          <a:p>
            <a:pPr marL="3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:  Responding to Students Over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text -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Pla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lesson play with another group.  Large group discussion, with an option to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learn more about Lesson Play, we have included an article on your memory sti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F69A-F4FB-4C75-A445-07E1020D30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urkey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2C86-1D46-47AE-AAC3-2B43319BFC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479600"/>
            <a:ext cx="843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urkey weighs 9.75 kilogra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bout 20 minutes to cook 500 grams of this turkey.  Based on this information, how many minutes does it take to cook the whole tur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0800" y="3405240"/>
            <a:ext cx="702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4114800"/>
            <a:ext cx="591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 with a partner to solve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t your solution, in preparation for a Gallery Walk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 the posted work with your partner and provide written feedback to others, based on the math you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0A4B-68DD-4BBD-A290-15F325310F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- Another 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0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view a video from the Schools in the Middle spring session.  Listen to how students provide feedback to each other, as they work on the sam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0963-D7C4-4CA2-93C6-C2537AEFE2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fter/Part 3/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90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discussion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student feedback different from teacher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help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build this culture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eacher’s role during this discour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453E-1671-4ADE-9B04-61CBF93FB5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shing for Your Thou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1000"/>
          </a:bodyPr>
          <a:p>
            <a:pPr marL="348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love fishing.  You put that line in the water and you don’t know what’s on the other end.  Your imagination is under the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Robert Al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quote relate to what you’ve done today?  Take a moment to jot your thoughts in your jour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a bobber to your fishing hat. A bobber lets you know that you might have a “fish” on th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DDE-8D17-4A36-8271-17809F38F5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practice providing feedback to students, based on their work, to move towards the attainment of learning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reflect on the mathematical content understanding(proportional reasoning) required to plan for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D564-AEE5-4E05-96C3-C50919146D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424F-6C16-4BFC-9805-6984A1E3E1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fore/Part 1/Minds On</a:t>
            </a:r>
            <a:br>
              <a:rPr sz="4400"/>
            </a:b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Baiting the Hoo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find a partner to play a game that will help us to activate our prior learning.  Find someone whose card has a fraction that is equivalent to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BB23-29A9-4F47-A223-8FA0806420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t In Line (A Dice Gam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two dice.  Create a proper fraction.  Repeat four more times.  Work with your partner to order the fractions from least to grea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ways you could use this game, or a variation, with your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FE17-419B-47B2-9685-391AF2F54F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ce the following numbers on a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A367-E634-4BA9-97A4-1D6EF029E4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55012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uring/Part 2/A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viewing a video clip from the CSC website to explore how teachers can work together, or alone, to examine student work in the midst of a 3 part lesson, and prepare to give feedback that will move student thinking for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sources.curriculum.org/secretariat/coplanning/learning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le you view, please record your thoughts on the observation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E74E-E10C-4FE9-AA26-643D11E125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uring/Part 2/A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Group Discussion:  Discuss your observations, first with an elbow partner, then with your table grou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-Pair-Sh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E9F5-A2DF-4C2B-8859-E4D0161241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blem Solving with a Partn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2240" y="1868400"/>
            <a:ext cx="709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371600"/>
            <a:ext cx="7707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ie, Christina, Audrey and Manny go shopping.  Josie spends 4/5 of her money, Christina spends 75% of her money, Audrey spends 0.68 of her money and Manny spends 17/20 of his money.  Who has the largest percentage of their money left?  Justify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ve this problem with your partner and anticipate other possible student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Pla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examples of student work from this Grade 6 EQAO problem from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order to practice providing effective feedback, we are going to engage in a lesson play, where you have the opportunity to script/act out the discussion that might happen between the student and teacher, in response to a piece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7789-AB2E-4B75-9A9B-DED9107D3E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S</cp:lastModifiedBy>
  <dcterms:modified xsi:type="dcterms:W3CDTF">2011-08-16T21:30:17Z</dcterms:modified>
  <cp:revision>19</cp:revision>
  <dc:subject/>
  <dc:title>&lt;Title&gt;</dc:title>
</cp:coreProperties>
</file>